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82E9-4B19-4810-8484-B5E51321C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7D94-F89B-4595-BF15-164E6541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4FC2-2140-4D0F-8500-158D56AE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7909-C4D6-48CC-804A-2A8F06CA6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4470-2A2B-4871-8771-EEEAE760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E42D-4042-4256-8F24-A56BC118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2700-6272-49D1-BF0A-058FCAB3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8D6B-677B-4FA0-9A72-5721BEB0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FA63-BF85-43BA-AE39-F248B915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4CD3-D39C-4A9A-9DCE-3AA30338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52BD-43E6-4F1B-8582-8A12133C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9648-B8C7-40DE-AEE1-27024D7B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FE07-E785-4B02-ACBB-FD9912C0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A801-B8D9-4451-84C4-237B593B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515E-A2F6-421C-8414-EFC9C7A5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E331-872D-4620-9033-89DA8D0FD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8FB5-E87B-40D8-B56D-EE0C5EEB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77999-3EDF-42C0-B146-CD1306AD9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1A100-F473-4D5A-8FAA-6991845C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340F9-92BE-4434-981A-E4567DB3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4A3F4-482C-46B7-85C6-0BF2065F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AFF21-DB57-455F-878D-5806801D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8529-ED15-4A68-8EEC-600416AD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4DDA8-DA08-4377-9111-C846C38D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44B32-E944-48FC-96FA-441AAD84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3E314-5A1E-47D2-936D-A3835BF1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D073A-8889-4795-A982-2EB2F3EF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3A2AB-9D3C-47B8-B923-9FD0FF64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75FC8-F832-4F15-AE03-424E179C7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AF919-D9EF-4A96-B7FD-3F34E58C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B5FE6-A882-4DF2-8079-BDB66BFC3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033E5-1590-4A6F-B091-B2F805B6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21673-8471-4B72-BF91-88C07733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95CE-912E-40AD-9462-FA0E1FB9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AF9C9-DCFC-47F7-BA96-B5760E33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4DD2C-AE69-4AE0-BE3E-41848701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F9767-612A-478D-801F-CEE27CC7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62C34-AC04-41B8-9CB8-7BFCACE1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B6BAE-0E22-466C-95A1-9BAA41F6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07293-94D1-4A98-86FA-09B375A6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C33D8-D898-453E-96D1-F2FC7A99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B85EE-6572-4934-AC51-A64CE1C4C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F3D37-2ABE-4B0D-B0A9-9F3A683E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E7111-5AA7-473A-9E4D-97068CF1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CD1D-2A57-4EDB-B611-6B652B5F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8F7DD-21E5-4269-A9F2-5861129D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219B6-9879-4A1C-BA5D-1A7D451D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67D13-D1A0-4AB6-AED0-EAB00A35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CC6E0-A7C7-48E5-9AF3-E078145B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5DE18-CBF3-426A-BE2C-3F6AF52E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FB097-1664-438E-86BC-C628F0FC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C3325-F441-46DE-BD0B-091B7C24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A7CFC-9FE1-4909-83B8-33F6373A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D16DD-3734-4A47-98B3-12F4AA47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13F98-0026-4C66-85DC-C106E0F3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19A4-5983-42EB-B079-18962592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07559-7DC1-4566-99E2-88BDA1126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57658-9C2C-4DED-A40C-124A2B425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4424C-D168-4FD6-8016-DFF2F665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1AC5D-98E0-467E-A7A0-65380DE7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6E4CD-08B6-41A3-980F-6007D001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BF177-B529-4581-B6C6-DEE6F63A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20BAC-C214-408E-BCB9-CE4333BB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F4714-B6EE-4392-9DF2-D7D82121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1CE37-74A6-4EF6-A9C1-C52CFBFC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8F264-8304-47AB-A3AE-402A9D77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BF40-26C3-4DF8-90D1-DC5F0D78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78D5A-D917-42E3-85C2-445133EC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C76DA-62CE-4188-A373-AE536747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AB647-4A97-4FB6-B8C6-445F7A88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C8BA2-DF95-4B79-9D1A-E6722DB2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9594D-E32F-40BA-93B7-E1325845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EB1E1-CF8E-4026-A06E-17C22D4E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924ED-2B36-4519-85AB-E561BCE2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2EEFB-BDF7-4A9C-8216-099B40F0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5E72E-992A-4E0E-84C8-BC192AC3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B7A9B-6DFB-4AA0-8988-6DBDDF4E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BB07-9294-4BF2-8832-045DF0A7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1E621-4773-4F90-8CA8-70CDBA87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6A223-B84F-4FE3-8592-8929DBC0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735F3-A330-40F2-92B3-14F2B845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F348A-5D34-41AC-90F0-DC74BEC59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C2DE8-B578-4E78-AF8A-40A69DEA8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74C1-AA38-48B7-842A-44FDA748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7BB2-55E8-48FA-B4F9-6780B3E4E264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28C1-7909-4F96-A78D-B5E40FE87A59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9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923D-66B5-4293-B6C2-E02158DD1492}" type="datetime">
              <a:rPr b="0" lang="cs-CZ" sz="1200" spc="-1" strike="noStrike">
                <a:solidFill>
                  <a:srgbClr val="fffff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6420-C1E9-4644-8627-97B8E17CFCDF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bdélník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66C2-BF25-4FCA-9BC7-D8216E4DD261}" type="datetime">
              <a:rPr b="0" lang="cs-CZ" sz="1200" spc="-1" strike="noStrike">
                <a:solidFill>
                  <a:srgbClr val="fffff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8E05-D290-4619-AA73-5F2C5800028E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DB08-EB92-486A-B77C-269304B3225F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1F89-58CE-4225-8E92-A0F490F9C3BC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bdélník 9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941F-602F-4B9A-A1BF-1A62BA32A9B9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A45A-6A92-4954-B5E3-1E8552EBCCE7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bdélník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bdélník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653D-9F11-4D75-B7E8-EC3DC8563D21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CC46-0256-4554-8CFB-9861DB5A8331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Obdélník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7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28AF-058F-4FB1-BF46-E70E5A9589BD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609D-C8E3-4867-9C7B-BDD9AC4C52D2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685440" y="333000"/>
            <a:ext cx="8077320" cy="431964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Corbel"/>
              </a:rPr>
              <a:t>Název školy: Střední zdravotnická škola a vyšší odborná škola zdravotnická Karlovy Vary</a:t>
            </a:r>
            <a:br>
              <a:rPr sz="1700"/>
            </a:br>
            <a:r>
              <a:rPr b="0" lang="cs-CZ" sz="1700" spc="-1" strike="noStrike">
                <a:solidFill>
                  <a:srgbClr val="ffffff"/>
                </a:solidFill>
                <a:latin typeface="Corbel"/>
              </a:rPr>
              <a:t>Číslo projektu: CZ.1.07/1.5.00/34.0953</a:t>
            </a:r>
            <a:br>
              <a:rPr sz="1700"/>
            </a:b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Vzdělávací materiál</a:t>
            </a:r>
            <a:r>
              <a:rPr b="0" lang="cs-CZ" sz="1700" spc="-1" strike="noStrike">
                <a:solidFill>
                  <a:srgbClr val="ffffff"/>
                </a:solidFill>
                <a:latin typeface="Corbel"/>
              </a:rPr>
              <a:t>: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 Black"/>
              </a:rPr>
              <a:t>Zánět </a:t>
            </a:r>
            <a:br>
              <a:rPr sz="1700"/>
            </a:br>
            <a:r>
              <a:rPr b="0" lang="cs-CZ" sz="1700" spc="-1" strike="noStrike">
                <a:solidFill>
                  <a:srgbClr val="ffffff"/>
                </a:solidFill>
                <a:latin typeface="Corbel"/>
              </a:rPr>
              <a:t>Šablona III/2 Inovace a zkvalitnění výuky prostřednictvím ICT</a:t>
            </a:r>
            <a:br>
              <a:rPr sz="1700"/>
            </a:br>
            <a:r>
              <a:rPr b="0" lang="cs-CZ" sz="1700" spc="-1" strike="noStrike">
                <a:solidFill>
                  <a:srgbClr val="ffffff"/>
                </a:solidFill>
                <a:latin typeface="Corbel"/>
              </a:rPr>
              <a:t>Název materiálu: </a:t>
            </a:r>
            <a:r>
              <a:rPr b="0" lang="cs-CZ" sz="1700" spc="-1" strike="noStrike">
                <a:solidFill>
                  <a:srgbClr val="ffffff"/>
                </a:solidFill>
                <a:latin typeface="Arial Black"/>
              </a:rPr>
              <a:t>VY_32_INOVACE_KLN.2.10</a:t>
            </a:r>
            <a:br>
              <a:rPr sz="1700"/>
            </a:br>
            <a:r>
              <a:rPr b="0" lang="cs-CZ" sz="1700" spc="-1" strike="noStrike">
                <a:solidFill>
                  <a:srgbClr val="ffffff"/>
                </a:solidFill>
                <a:latin typeface="Corbel"/>
              </a:rPr>
              <a:t>Datum tvorby: </a:t>
            </a:r>
            <a:r>
              <a:rPr b="0" lang="cs-CZ" sz="1700" spc="-1" strike="noStrike">
                <a:solidFill>
                  <a:srgbClr val="ffffff"/>
                </a:solidFill>
                <a:latin typeface="Arial Black"/>
              </a:rPr>
              <a:t>10.12.2013</a:t>
            </a:r>
            <a:br>
              <a:rPr sz="1700"/>
            </a:br>
            <a:r>
              <a:rPr b="0" lang="cs-CZ" sz="1700" spc="-1" strike="noStrike">
                <a:solidFill>
                  <a:srgbClr val="ffffff"/>
                </a:solidFill>
                <a:latin typeface="Corbel"/>
              </a:rPr>
              <a:t>Vyučovací předmět, ročník, obor: </a:t>
            </a:r>
            <a:r>
              <a:rPr b="0" lang="cs-CZ" sz="1700" spc="-1" strike="noStrike">
                <a:solidFill>
                  <a:srgbClr val="ffffff"/>
                </a:solidFill>
                <a:latin typeface="Arial Black"/>
              </a:rPr>
              <a:t>KLN, 2. ročník, Nutriční asistent</a:t>
            </a:r>
            <a:br>
              <a:rPr sz="1700"/>
            </a:br>
            <a:r>
              <a:rPr b="0" lang="cs-CZ" sz="1700" spc="-1" strike="noStrike">
                <a:solidFill>
                  <a:srgbClr val="ffffff"/>
                </a:solidFill>
                <a:latin typeface="Corbel"/>
              </a:rPr>
              <a:t>Autor: </a:t>
            </a:r>
            <a:r>
              <a:rPr b="0" lang="cs-CZ" sz="1700" spc="-1" strike="noStrike">
                <a:solidFill>
                  <a:srgbClr val="ffffff"/>
                </a:solidFill>
                <a:latin typeface="Arial Black"/>
              </a:rPr>
              <a:t>Veronika Rausová</a:t>
            </a:r>
            <a:br>
              <a:rPr sz="1700"/>
            </a:br>
            <a:r>
              <a:rPr b="0" lang="cs-CZ" sz="1700" spc="-1" strike="noStrike">
                <a:solidFill>
                  <a:srgbClr val="ffffff"/>
                </a:solidFill>
                <a:latin typeface="Corbel"/>
              </a:rPr>
              <a:t>Anotace: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: </a:t>
            </a:r>
            <a:r>
              <a:rPr b="0" lang="cs-CZ" sz="1800" spc="-1" strike="noStrike">
                <a:solidFill>
                  <a:srgbClr val="ffffff"/>
                </a:solidFill>
                <a:latin typeface="Arial Black"/>
              </a:rPr>
              <a:t>Vzdělávací materiál je určen k podpoře výuky předmětu Klinika nemocí v rozsahu jednoho školního roku. Prezentace KLN.2.10 obsahuje výklad pojmů </a:t>
            </a:r>
            <a:r>
              <a:rPr b="0" lang="cs-CZ" sz="1700" spc="-1" strike="noStrike">
                <a:solidFill>
                  <a:srgbClr val="ffffff"/>
                </a:solidFill>
                <a:latin typeface="Arial Black"/>
              </a:rPr>
              <a:t>zánět, průběh zánětu a znaky zánětu. Připojen je přehled otázek k zopakování a Test V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539640" y="5373720"/>
            <a:ext cx="8191440" cy="148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Průběh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Akutní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Subakutní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hronický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Závěr – co je zánět?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= odpověď organismu na působení škodlivého agens. Má složku alterativní, exsudativní, proliferační, a imunitní. Má obrannou a reparační funkci. Má místní i celkové projevy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Opakování: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o je zánět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Jaké má fáz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Jak se tvoří název zánětlivého onemocnění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o je exsudát a jaký může být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Jaké jsou mikroskopické projevy zánětu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Jaké jsou místní makroskopické projevy zánětu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Jaké jsou celkové projevy zánět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o je virémie, bakteriémie, pyémie, seps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Literatura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MAČÁK, Jiří a Jana MAČÁKOVÁ. </a:t>
            </a:r>
            <a:r>
              <a:rPr b="0" i="1" lang="cs-CZ" sz="2000" spc="-1" strike="noStrike">
                <a:solidFill>
                  <a:srgbClr val="000000"/>
                </a:solidFill>
                <a:latin typeface="Corbel"/>
              </a:rPr>
              <a:t>Patologie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. 1. vyd. Praha: Grada, 2004. ISBN 80-247-0785-3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STŘÍTESKÝ, Jan a Petr HALBERSTADT. </a:t>
            </a:r>
            <a:r>
              <a:rPr b="0" i="1" lang="cs-CZ" sz="2000" spc="-1" strike="noStrike">
                <a:solidFill>
                  <a:srgbClr val="000000"/>
                </a:solidFill>
                <a:latin typeface="Corbel"/>
              </a:rPr>
              <a:t>Patologie pro 2. ročník středních zdravotnických škol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. Vyd. 1. Praha: Scientia medica, 1995, 2 sv. ISBN 80-85526-44-11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3355920"/>
            <a:ext cx="8077320" cy="16732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700" spc="-1" strike="noStrike">
                <a:solidFill>
                  <a:srgbClr val="ffc800"/>
                </a:solidFill>
                <a:latin typeface="Corbel"/>
              </a:rPr>
              <a:t>ZÁNĚT</a:t>
            </a:r>
            <a:endParaRPr b="1" lang="en-US" sz="47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Definice zánětu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INFLAMMATIO = složitý komplex dějů a morfologických změn, zpravidla vyvolaný působením škodlivého činitele (agens) =&gt; </a:t>
            </a: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obrana a oprava (REPARACE – REGENERACE – ZHOJENÍ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rbel"/>
              </a:rPr>
              <a:t>http://cs.wikipedia.org/wiki/Z%C3%A1n%C4%9Bt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rbel"/>
              </a:rPr>
              <a:t>http://www.wikiskripta.eu/index.php/Z%C3%A1pal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Kde?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Všud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-iti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Corbel"/>
              </a:rPr>
              <a:t>Encephalitis, rhinitis, nefritis, dermatitis, coniunctivitis, tracheitis, hepatitis, gastritis, urocystitis, gingivitis, stomatitis, otitis, 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Znaky / projevy zánětu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http://www.wikiskripta.eu/index.php/Z%C3%A1n%C4%9B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Alterace (= změna tkáně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Exsudace </a:t>
            </a:r>
            <a:r>
              <a:rPr b="0" lang="cs-CZ" sz="1200" spc="-1" strike="noStrike">
                <a:solidFill>
                  <a:srgbClr val="000000"/>
                </a:solidFill>
                <a:latin typeface="Corbel"/>
              </a:rPr>
              <a:t>http://cs.wikipedia.org/wiki/Exsud%C3%A1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katarální výpotek = čirý = serózní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hnisavý = purulentní – absces, flegmon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bez výpotku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fibrinózní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gangrenózní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Imunitní děje  </a:t>
            </a: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http://www.wikiskripta.eu/index.php/Z%C3%A1pal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roliferace – náprava (jizva / funkční tkáň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Projevy mikroskopické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Altera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hemotax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Zpropustnění cév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růnik bílých krvinek do místa zánět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Zpuštění zánětlivé reakce – specifické a nespecifické imunitní děje, fagocytóza, opouzdření ložiska, protilátky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Reparace, proliferace – hojení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Projevy makroskopické místní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Místní (lokální) změny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Zčervenání (rubor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Bolest (dolor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Otok (tumor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Teplo (calor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Poškozená funkce (functio laesa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Celkové projevy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Subfebrilie, horečk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leukocytóz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Zvýšená sedimenta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elkové infekce = přítomnost patogenů v krvi – virémie, bakteriémie, pyémie, seps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4T18:15:30Z</dcterms:created>
  <dc:creator>Veronika</dc:creator>
  <dc:description/>
  <dc:language>en-US</dc:language>
  <cp:lastModifiedBy>Chalupna</cp:lastModifiedBy>
  <dcterms:modified xsi:type="dcterms:W3CDTF">2014-03-31T21:03:20Z</dcterms:modified>
  <cp:revision>12</cp:revision>
  <dc:subject/>
  <dc:title>Snímek 1</dc:title>
</cp:coreProperties>
</file>